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C32-90FD-4C0C-A88B-48913CA2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7DA-801F-4E6C-98DD-E848011B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4E4-A9C1-494A-B59E-3C36325F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DF9-1438-4955-A00C-AFBA9E8A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C9D2-8076-4D79-87F4-BB260136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327A-D324-411D-A32F-3E0F078E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0065-347E-4A3A-9EF5-6DC8EE7D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80DA-D76B-4A1A-B543-39830E74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ECD9-05A9-4834-856E-26D49DDB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7ED2-75D5-4374-9AD7-39E48FB0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5951-CF57-4051-B3BC-F25B975E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D4E-E7F3-4722-8DFB-2AEF3C79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5331-F3C5-4B4A-B32A-5785FD75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72AC-29F0-45F2-AC83-87E8809F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827F-11A6-4DB7-AA7E-3CF31A1F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4314-462A-40F4-8840-390D02D1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12A8-7C03-4EA9-A6C9-7F6D4C4A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20B-9FF8-4443-8D86-42431C3E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E6F-5BAB-4063-BDFF-DA752BB9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BDE-A4CD-4138-8CD3-B0ED7099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708-7A98-4BD7-9980-F231872C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A69-CE7B-446B-9481-98FBCD46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0FE-0069-4BCD-8B96-D1767C55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561-DA08-439A-977B-90A19096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8717-19E5-4589-BC2E-CF0D2C8FE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24BB-F3E0-498E-B6E2-4610A8B98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ooking With Bob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</a:rPr>
              <a:t>How To Cook 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</a:rPr>
              <a:t>Church Soup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943600" y="3657600"/>
          <a:ext cx="27432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657600"/>
                    <a:ext cx="27432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990720" y="4952880"/>
            <a:ext cx="56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y is it that many people don’t atte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urch services to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hy should you or I go to church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rvices on a regular basis?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6.  I Want to sleep in one                                day a week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I may not go to bed at an                           appropriate time the rest of  the                                   week, so I need to make up for it on Sunday.”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he answer is not to make Sunday a catch up day for sleep; the focus should be on acquiring healthy sleep habits during the week--Prov.   3:21-24; Psalm 3:5; 4:8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he most important response we can have is to value what God values and give our attention to the church!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866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7.  I Can’t find a church I like,                        so I don’t go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 church is not a government agency,                                     it is a dynamic community with Jesus as                              the head, and He can’t be voted out of                            office--Ephesians 1:22-23; 4:15; Colossians 1:18; 2:10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re of the focus should be on how Jesus meets needs in the context of community life--Ephesians 4:15-16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f we are believers, we can’t avoid the church any more than we can get by without our bodies.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 Corinthians 12:14-27--“Now you are the body of Christ, and each one of you is a part of it.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723924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8.  Church is boring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123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port, concerts, television are for audiences, but in the church we are on stage, we are on the screen, we are on the playing field; we are active!--Psalm 95:1-6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urch life is boring when we have not discovered the purpose of God’s church and how we contribute to its life--Ephesians 4:15-16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e can eliminate boredom and find great joy, meaning and encouragement by our involvement with God/His children--II Cor 7:3-4; Romans 15:31-32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676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urch services don’t really                                          catch my attention like a concert, a sporting event, or television.  I don’t need any more boredom in my life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9.  Don’t have any reason to go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00200" y="213336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Times New Roman"/>
              </a:rPr>
              <a:t>This is the most honest response of all.</a:t>
            </a:r>
            <a:endParaRPr b="0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t is easily addressed if we take the time to study God’s Word--II Peter 1:5 and its context.</a:t>
            </a:r>
            <a:endParaRPr b="0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What is needed is to have many good reasons to be involved with a church.</a:t>
            </a:r>
            <a:endParaRPr b="0" i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866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I Peter 1:2-9--Church Soup</a:t>
            </a: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t all  starts with Jesus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2]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Grace and peace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 be yours in abundance through the knowledge of God and of Jesus our Lord.  </a:t>
            </a: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3]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His divine power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 has given us </a:t>
            </a:r>
            <a:r>
              <a:rPr b="1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 we need for life and godliness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 through our knowledge of him who called us by his own glory and goodness.  </a:t>
            </a: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4]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  Through these he has given us his very </a:t>
            </a:r>
            <a:r>
              <a:rPr b="1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great and precious promises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, so that through them you may </a:t>
            </a:r>
            <a:r>
              <a:rPr b="1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participate in the divine nature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 and escape the corruption in the world caused by evil desires.</a:t>
            </a:r>
            <a:endParaRPr b="0" i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78204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I Peter 1:2-9--Church Soup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Church Soup Ingredients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5]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700" spc="-1" strike="noStrike" u="sng">
                <a:solidFill>
                  <a:srgbClr val="ffffff"/>
                </a:solidFill>
                <a:uFillTx/>
                <a:latin typeface="Times New Roman"/>
              </a:rPr>
              <a:t>For this very reason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, make every effort to ADD to your </a:t>
            </a:r>
            <a:r>
              <a:rPr b="1" lang="en-US" sz="2700" spc="-1" strike="noStrike" u="sng">
                <a:solidFill>
                  <a:srgbClr val="ffff00"/>
                </a:solidFill>
                <a:uFillTx/>
                <a:latin typeface="Times New Roman"/>
              </a:rPr>
              <a:t>faith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700" spc="-1" strike="noStrike" u="sng">
                <a:solidFill>
                  <a:srgbClr val="ffff00"/>
                </a:solidFill>
                <a:uFillTx/>
                <a:latin typeface="Times New Roman"/>
              </a:rPr>
              <a:t>goodness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; and to goodness, </a:t>
            </a:r>
            <a:r>
              <a:rPr b="1" lang="en-US" sz="2700" spc="-1" strike="noStrike" u="sng">
                <a:solidFill>
                  <a:srgbClr val="ffff00"/>
                </a:solidFill>
                <a:uFillTx/>
                <a:latin typeface="Times New Roman"/>
              </a:rPr>
              <a:t>knowledge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;  </a:t>
            </a: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6]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 and to knowledge, </a:t>
            </a:r>
            <a:r>
              <a:rPr b="1" lang="en-US" sz="2700" spc="-1" strike="noStrike" u="sng">
                <a:solidFill>
                  <a:srgbClr val="ffff00"/>
                </a:solidFill>
                <a:uFillTx/>
                <a:latin typeface="Times New Roman"/>
              </a:rPr>
              <a:t>self-control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; and to self-control, </a:t>
            </a:r>
            <a:r>
              <a:rPr b="1" lang="en-US" sz="2700" spc="-1" strike="noStrike" u="sng">
                <a:solidFill>
                  <a:srgbClr val="ffff00"/>
                </a:solidFill>
                <a:uFillTx/>
                <a:latin typeface="Times New Roman"/>
              </a:rPr>
              <a:t>perseverance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; and to perseverance, </a:t>
            </a:r>
            <a:r>
              <a:rPr b="1" lang="en-US" sz="2700" spc="-1" strike="noStrike" u="sng">
                <a:solidFill>
                  <a:srgbClr val="ffff00"/>
                </a:solidFill>
                <a:uFillTx/>
                <a:latin typeface="Times New Roman"/>
              </a:rPr>
              <a:t>godliness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;  </a:t>
            </a: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7]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  and to godliness, </a:t>
            </a:r>
            <a:r>
              <a:rPr b="1" lang="en-US" sz="2700" spc="-1" strike="noStrike" u="sng">
                <a:solidFill>
                  <a:srgbClr val="ffff00"/>
                </a:solidFill>
                <a:uFillTx/>
                <a:latin typeface="Times New Roman"/>
              </a:rPr>
              <a:t>brotherly kindness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; and to brotherly kindness, </a:t>
            </a:r>
            <a:r>
              <a:rPr b="1" lang="en-US" sz="2700" spc="-1" strike="noStrike" u="sng">
                <a:solidFill>
                  <a:srgbClr val="ffff00"/>
                </a:solidFill>
                <a:uFillTx/>
                <a:latin typeface="Times New Roman"/>
              </a:rPr>
              <a:t>love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8]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  For if you possess these qualities in increasing measure, they will keep you from  being ineffective and unproductive in your knowledge of our Lord Jesus Christ.  9]  But if anyone does not have them, he is nearsighted   and blind, and has forgotten that he has been cleansed from his past sins.</a:t>
            </a:r>
            <a:endParaRPr b="0" i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begin with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a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God’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ce and pea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rough knowledge of Jesus Christ--v. 2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add i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God’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divine) pow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v. 3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put i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ea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God’s Wor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is...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grea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and precious promi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--v. 4; Hebrews 5:14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lavor of our soup will be seasoned by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l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it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v. 5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add i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vegetabl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hentic Christia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aracter and knowledg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vv. 5-6 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oodness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knowledge, self-control, perseverance, godlin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nally, we add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odl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meaningfu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ationships and interaction--v. 7 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rother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kindness and lov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228600"/>
            <a:ext cx="69292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asty Chicken Noodle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hurch So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479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What does authentic church soup taste like?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he wa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God’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ce and pea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v. 2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he hea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God’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divine) pow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v. 3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he mea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is </a:t>
            </a: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great &amp; precious promi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v. 4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he sal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it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v. 5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he vegetabl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oodness, knowledge, self-control, perseverance, godlin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vv. 5-6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he noodl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rotherly kindness and love--v. 7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Can I challenge us all to seriously examine our church soup and see if we have the right ingredients in it?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od’s grace, peace, power and promis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able us to to work out (or add to) the Christian          faith to make soup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285840"/>
            <a:ext cx="723924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How is our batch of             church soup doing?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o we have the wrong elements in it?  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If we do, we will have a very unpleasant experience in the church gathered, or we will stay away from most church services.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e result of eating the wrong church soup is that we will be seriously malnourished.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What will it take to get us to dine at God’s table &amp; eat of the meal He has prepared for all of us?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gain, let’s all seriously examine our church soup and see if we have the right ingredients in it - especially Jesus.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Times New Roman"/>
              </a:rPr>
              <a:t>Appendix</a:t>
            </a:r>
            <a:endParaRPr b="0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16292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Yucky Beans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hurch Soup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ur in...the water of our own imagination 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ant impressions of the church.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ix in several dashes of spices from the media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d rumor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 the yucky beans of some stretching or ba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perience we have had with the church. 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ur in the hot sauce of anger.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x in all the vegetables that come from ou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sons and excuses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tir this all together until it is thoroughl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lended and serve hot!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00200" y="228600"/>
            <a:ext cx="69292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asty Chicken Noodle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hurch So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905120"/>
            <a:ext cx="792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a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meaningful service--I Peter 4: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ea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His word--Hebrews 5:1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i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love, joy, peace, patience, kindness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odness, faithfulness--Galatians 5:22-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l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profound/eternal relationship with Him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Psalm 23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vegetabl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authentic church services/actions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-Acts 2:42-47; Eph. 4:1-6; Heb. 10:19-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odl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meaningful relationships and joy-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mans 12:9-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persecution, trials, testing--James 1:2-8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52280"/>
          <a:ext cx="202860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280"/>
                    <a:ext cx="20286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78204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Hebrews 10:19-25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9]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Therefore, brothers, since we have confidence to enter the Most Holy Place by the blood of Jesus,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0]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by a new and living way opened for us through the curtain, that is, his body,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1]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and since we have a great priest over the house of God,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2]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let us draw near to God with a sincere heart in full assurance of faith, having our hearts sprinkled to cleanse us from a guilty conscience and having our bodies washed with pure water.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3]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Let us hold unswervingly to the hope we profess, for he who promised is faithful.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4]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And let us consider how we may spur one another on toward love and good deeds.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5]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Let us not give up meeting together, as some are in the habit of doing, but let us encourage one another--and all the more as you see the Day approaching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693432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neva"/>
              </a:rPr>
              <a:t>George Barna’s website: 4,200 young people and adults surveyed</a:t>
            </a:r>
            <a:br>
              <a:rPr sz="2800"/>
            </a:b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ages 5 -13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32% will accept Jesus if asked to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ages 14 - 18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4%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ages 19 - death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6%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78% of American teens say that their parents have a lot of influence  on their life (1997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47% say their parents have the greatest influence on their spiritual development; 16% listed their church; 8% named peers; 4% said relatives (1998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Nearly one-quarter of parents (24%) identified their church or religion as a significant factor in their parenting (1998). In terms of born again Christian parents, one-third (33%) maintain that their church or faith has been a dominant influence in the way they parent (1998). 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Nearly two-thirds of parents (63%) said that their church should take on an increased role in assisting parents, while 57% of parents think that the public schools should take on an increased role and only 34% of parents think the federal government should take on an increased       role in assisting parents (1998).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neva"/>
              </a:rPr>
              <a:t>Adults who attended church regularly as a child are nearly three times as likely to be attending a church today as are their peers who avoided the church during childhood (61% to 22%, respectively --2001).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3716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pocrisy in the church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ltural distance--“I can’t relate to it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Sunday’s the only day with my family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y kids don’t want to go; I don’t want to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bitter them by making them go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I’ve had bad experiences with the church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 the past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I want to sleep in one day a week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Church is boring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“I don’t have any reason to go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76320"/>
            <a:ext cx="512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Vegetabl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of Reasons and Exc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2920" y="1901880"/>
            <a:ext cx="559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Times New Roman"/>
              </a:rPr>
              <a:t>I don’t go to church services because of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1.  Hypocrisy in the church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5638680"/>
            <a:ext cx="6781680" cy="1067040"/>
          </a:xfrm>
          <a:prstGeom prst="rect">
            <a:avLst/>
          </a:prstGeom>
          <a:solidFill>
            <a:srgbClr val="0000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ypocrisy is everywhere and most likely in                   our own home--I Peter 2:1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ristians are not perfect, just forgiven--I John 1:9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hurches are for sinners who are in the process of becoming more like Jesus--Colossians 3:5-10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re is a past, present and future dimension to our salvation--I Corinthians 6:9-11; II Thessalonians 1:12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hy cast everyone in the same light as the inconsistent?  Do we really have the right to make those judgments from such a distance? 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ithin the church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hypocrisy should be confronted, but it should be done gently and without planks of hypocrisy in our eyes--Gal. 6:1-2; Matt. 7:1-5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8580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2.  Cultural distanc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                                  “I can’t relate to it”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he church services are not                                the church; the people are                                                 the church--I Corinthians 1:2; 16:19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t is to be an active member in the church   and in our lives every day--Colossians 1:18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st importantly, it is centered on a relationship with Jesus--Hebrews 12:1-3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693432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3.  Sunday’s the only day                    to spend with my family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f we are followers of Jesus, then He is an active        member in our family, and there is no conflict between   the church and family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--Ephesians 5:21-6:4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church families put the best of ingredients into     the soup of their children’s public school life, and          only give the bones to their church life--II Tim. 2:11-15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2]  “...if we endure, we will also reign with him.  If we disown him, he will also disown us…”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5]  “Do your best to present yourself to God as one approved, a workman who does not need to be ashamed and who correctly handles the word of truth.”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f we as parents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only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invest in our child’s public school life, we have made a short term investment that will not have eternal values or return--Matt. 6:19-21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962520"/>
            <a:ext cx="7162920" cy="1600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62012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4.  Kids don’t want to go; I don’t want to embitter them by making them go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hen do most people come to know the                      Lord?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85% do so before the age of 18.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child is not embittered by church attendance; it is more often by the treatment of a parent and/or hypocrisy--Ephesians 6:4; Col. 3:21; Heb. 12:15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t is a mistake to give children choices about church attendance while they are in our home--Proverbs 22:6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ch faithfulness and sticking with a church in the ebb and flow of the church’s life--Matt. 25:21;  II Tim. 2:2; I Cor. 4:2; Acts 16:1-2 (faithfulness is rewarded)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Even if the church isn’t perfect, teach your children to thrive in imperfection, not to be a critic and a negative influenc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!--II Timothy 4:3-5; Romans 12:11,14-18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175248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693432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orge Barna’s survey discovered the following: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8288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Zapf Dingba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ults who attended church regularly as a child are nearly three times as likely to be attending a church today as are their peers who avoided the church during childhood (61% to 22%, respectively)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Zapf Dingba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63% of adults who were churched as children take their own children to a church, which is double the proportion among adults who were not churched and who now take their kids to church (33%)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Zapf Dingba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ults who attended church as a child are twice as likely as others to read the Bible during a typical week as are those who avoided churches when young; and twice as likely to attend a church worship service in a typical week (2001)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Zapf Dingbat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dults who attended church as a child are nearly 50% more likely to pray to God during a typical week than are those who did not attend church as children (2001)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5.  Bad experiences with                    the church in the past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5638680"/>
            <a:ext cx="7696440" cy="83844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Churches are all different--Revelation                                2-3; Romans 1:8-12; I Corinthians 1:5-7;                            3:1-3.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 times, any church will not function as it should,         but that doesn’t mean all churches are toxic, or           that our past experiences are destined to be          repeated--Rev. 3:7-13; 3:19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n a healthy church, problems are corrected/the church grows even if it has seasons of difficulty--II Cor. 2:5-11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ok for a healthy church, not a perfect church, where the Scripture is lovingly applied and Jesus is the focus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5T20:45:27Z</dcterms:created>
  <dc:creator>Robert C. Stone</dc:creator>
  <dc:description/>
  <dc:language>en-US</dc:language>
  <cp:lastModifiedBy>Kindlund</cp:lastModifiedBy>
  <dcterms:modified xsi:type="dcterms:W3CDTF">2002-03-24T05:28:02Z</dcterms:modified>
  <cp:revision>189</cp:revision>
  <dc:subject/>
  <dc:title>Cooking With Bob</dc:title>
</cp:coreProperties>
</file>