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3B2-BAC4-408F-B487-3EF34C08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189-1E1E-4BFB-9B81-67BF60F6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50F-A3FB-4278-8A5A-2B0047C5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71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86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43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71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86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8273-3965-42FB-BA8D-A1ABEF31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6274-BF6F-4FA1-A857-E164AA40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8F09-0831-4958-924A-E7FF057F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43A7-56D9-4993-B760-E8F36D24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A71B-3820-4AC1-85A3-A1B4C130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4A2C-7371-43A6-82DA-3561D8D0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C307-A111-4694-B824-3829CFA6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59E2-4D3F-4A92-8FA7-B997F2FE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8065-2128-4A4A-9F63-CADBF718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F0EF-A6B7-4892-8E4F-EFC93D54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6F27-1C40-4EF4-9572-BEBD622D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73D1-60AF-4854-983E-59F84287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0F9A-B55C-4D0C-BA70-A67C7BA2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71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986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43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771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986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76DC-D535-4A1D-B566-E44C6569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A9ED-6A1C-4251-9540-BCBDA523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4450-9831-49F1-86EE-94D12E15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9975-14C9-4964-81D0-8C6A55E7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EA7D-6E6B-4A6F-9542-07CE595C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B03-2103-4F94-B0BC-A1E9C99B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B30B-0114-493F-861C-B838303B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DEB0-992D-47A0-A732-0C47D5E9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60200" y="0"/>
            <a:ext cx="8972640" cy="6845400"/>
            <a:chOff x="160200" y="0"/>
            <a:chExt cx="897264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8320" cy="684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3320" cy="4667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880" cy="3352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240" cy="1218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60200" y="1409760"/>
              <a:ext cx="88963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88B2-5B27-470D-995B-F01F50509A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60200" y="0"/>
            <a:ext cx="8982360" cy="6845400"/>
            <a:chOff x="160200" y="0"/>
            <a:chExt cx="8982360" cy="6845400"/>
          </a:xfrm>
        </p:grpSpPr>
        <p:sp>
          <p:nvSpPr>
            <p:cNvPr id="50" name=""/>
            <p:cNvSpPr/>
            <p:nvPr/>
          </p:nvSpPr>
          <p:spPr>
            <a:xfrm>
              <a:off x="236520" y="0"/>
              <a:ext cx="238320" cy="684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9560" y="0"/>
              <a:ext cx="373320" cy="5486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2200" y="0"/>
              <a:ext cx="1082880" cy="3352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" y="0"/>
              <a:ext cx="254160" cy="4419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2200" y="2610000"/>
              <a:ext cx="525240" cy="1218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7680" y="2476440"/>
              <a:ext cx="8624880" cy="133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0200" y="2476440"/>
              <a:ext cx="88963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E79D-53DB-4331-889C-B34D565028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62012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00"/>
                </a:solidFill>
                <a:latin typeface="Times New Roman"/>
              </a:rPr>
              <a:t>Forgetting and Remembering</a:t>
            </a:r>
            <a:endParaRPr b="0" i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e have to remember some things 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nd Forget some things.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895480" y="1828800"/>
          <a:ext cx="4292640" cy="33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828800"/>
                    <a:ext cx="4292640" cy="33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The People of Israel             Forgot Some Thing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8288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uteronomy  32:18--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...you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orgot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the God who gave you birth.”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udges 3:7--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“The Israelites did evil in the eyes of the LORD; they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forgot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the LORD their God…”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salm 78:11--“They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orgot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what he had done, the wonders he had shown them.”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salm 106:21--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“They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forgot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the God who saved them, who had done great things in Egypt.”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Believers In Jesus Need to Remember Some Thing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rst, He took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rea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nd                   put incredible meaning into it. 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nd he took bread, gave thanks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broke it, and gave it to them, saying,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‘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This is my body given for you; do this i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remembrance of me.’”--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uke 22:19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ember the bread is a picture of Jesus’ body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 am God in the flesh.”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 didn’t send an angel or an ambassador.”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 wanted to be with you, you are important to Me.”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712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, He takes the cup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“In the same way, after supper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he took th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up, saying, ‘This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up is the new covenant in my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blood; do this, whenever you drink it,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n remembrance of me.’”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emember this cup is the picture of my blood.”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’m going to die in your place for your sins, failures, brokenness and imperfections so you can be forgiven and have an eternal relationship with Me.”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Believers In Jesus Need to Remember Some Thing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God is the Great Forgetter”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d knows what to remember and what to forget!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salm 103:1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“...as far as the east is from the west, so far has he removed our transgressions from us.”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saiah 1:18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“Come now, let us reason together,” says the LORD. “Though your sins arelike scarlet, they shall be as white as snow; though they are red as crimson, they shall be like wool.”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saiah 38:17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“Surely it was for my benefit that I suffered such anguish. In your love you kept me from the pit of destruction; you have put all my sins behind your back.”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saiah 43:2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“I, even I, am he who blots out your transgressions, for my own sake, and remembers your sins no more.”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enesis 9:1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 will remember my covenant between me and you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and all living creatures of every kind. Never again will the waters become a flood to destroy all life.”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6]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“Whenever the rainbow appears in the clouds,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 will see it and remember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the everlasting covenant between God and all living creatures of every kind on the earth.”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saiah 44:2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member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these things, O Jacob, for you are my servant, O Israel. I have made you, you are my servant; O Israel,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 will not forget you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zekiel 16:6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“Yet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 will remember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the covenant I made with you in the days of you’re my youth, and I will establish an everlasting covenant with you.”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saiah 49:1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“Can a mother forget the baby at her breast and have no compassion on the child she has borne? Though she may forget,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 will not forget you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!”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God is the Great Rememberer”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d remembers and chooses not to forget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9T06:27:27Z</dcterms:created>
  <dc:creator>Robert C. Stone</dc:creator>
  <dc:description/>
  <dc:language>en-US</dc:language>
  <cp:lastModifiedBy>Kindlund</cp:lastModifiedBy>
  <dcterms:modified xsi:type="dcterms:W3CDTF">2002-05-28T20:41:57Z</dcterms:modified>
  <cp:revision>11</cp:revision>
  <dc:subject/>
  <dc:title>No Slide Title</dc:title>
</cp:coreProperties>
</file>