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9AC-AA38-49CD-9353-9B878A20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057-EBE0-4F79-BA13-6CC7CEC4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A31-E884-422F-BBC4-3E733271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930-3E21-4BE1-A1E5-4B217AF0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9FB-CACC-46DE-BB86-571FE616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506C-DDD5-4279-957A-3783077E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E611-67DA-4F15-8081-96CB8B38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93ED-7B31-439A-897A-47B3ECD9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04BB-86E6-47DE-A1F0-FA6EF9DC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E0BC-620B-4990-B650-2898B339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62B8-0AC0-4AC6-8EFF-F357197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D23-E618-4B08-9A65-15501E1F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6BBE-DD25-40BF-BDFA-E29052A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B3B6-2A28-4F19-BDC0-F8F5BEC0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A2EA-761D-490D-B182-57CB6748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0A2F-4B22-40C4-992A-7175648E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6516-BBA7-4650-AA7C-EEC2F1EA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C2B-E796-455D-8C7B-B36BA76E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F8F-6546-448F-B56F-2C24115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3C9-72FB-40B2-A235-4B53DBC6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429-1F3F-4465-BD1D-D9CDC005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6A2-92A3-4B81-8011-A8409F40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FB8-D746-47C0-930D-3828393A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D5E5-8C83-487D-9192-BA479769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0200" y="0"/>
            <a:ext cx="8972640" cy="6845400"/>
            <a:chOff x="160200" y="0"/>
            <a:chExt cx="897264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200" y="140976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B926-79EB-4CC0-8C33-78C08F8C5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60200" y="0"/>
            <a:ext cx="8982360" cy="6845400"/>
            <a:chOff x="160200" y="0"/>
            <a:chExt cx="8982360" cy="6845400"/>
          </a:xfrm>
        </p:grpSpPr>
        <p:sp>
          <p:nvSpPr>
            <p:cNvPr id="50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560" y="0"/>
              <a:ext cx="373320" cy="5486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0"/>
              <a:ext cx="254160" cy="441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2200" y="2610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7680" y="2476440"/>
              <a:ext cx="862488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200" y="247644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BBF0-8365-4B2B-89E5-E4998A389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uilding Found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Living Ston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-building a foundation for a spiritual house--I Pet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:4-5a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]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As you come to him, the living Stone--rejected by men but chosen by God and precious to him-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]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ou also, like living stones, are being built into a spiritual house…”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ternal Word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-building on the Scripture to stand forever--I Peter 1:24-25.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]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“For, ‘All men are like grass, and all their glory is like the flowers of the field; the grass withers and the flowers fall,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]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but the word of the Lord stands forever.’  And this is the word that was preached to you.”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720" y="212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56560" y="1905120"/>
            <a:ext cx="73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y is it some churches/people grow and others don’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5440" y="44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I Peter 2:1-3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“Therefore,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yourselves of all malice and all deceit, hypocrisy, envy, and slander of every kind.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Like newborn babies,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rave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pure spiritual milk, so that by it you may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ow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up in your salvation,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now that you hav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aste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at the Lord is good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76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ow do we grow to be the spiritual stones we need to b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65200" y="1752480"/>
            <a:ext cx="76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a building, the soil under &amp; around the foundation must be good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d the stones in the building must be the right quality, too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440" y="44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4678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ternal Words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uiding Principles--I Peter 2:2-3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28195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Healthy things - people grow--v. 2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ood comes                from good--v. 3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89280" y="1760400"/>
            <a:ext cx="66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] 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“Like newborn babies, crave pure spiritual milk, so that by it you may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grow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up in your salvation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3] 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now that you have tasted that the Lord is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good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440" y="44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286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at have we tasted?</a:t>
            </a:r>
            <a:br>
              <a:rPr sz="4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od’s Word and the Lord’s goo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59092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rst tastes are goo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Romans 6: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Romans 10: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John 3: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d tastes are better:  Ps. 19:7-11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10]  “They are more precious than gold, than much pure gold; they are sweeter than honey, than honey from the comb.”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6811920" y="3271680"/>
            <a:ext cx="2286000" cy="41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Word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752480"/>
            <a:ext cx="435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]  “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Like newborn babies, crave pure spiritual milk..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5440" y="44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we don’t crave pure spiritual milk: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don’t grow up and we shrivel up/stagnate.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We don’t fit as we should; we impede, weaken the         whole building and cause others to work harder.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forget what pure spiritual milk tastes like and we crave other tastes.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If we don’t crave pure milk, we will crave something-- and usually it is something that is not pure.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don’t rid ourselves of our former characteristics, so we live like we once were--2:1.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“Therefore, rid yourselves of all malice and 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ceit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, hypocrisy, envy, and slander of every kind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5440" y="44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361800"/>
            <a:ext cx="716292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et’s look at one of these characteristics and see what happens when we don’t rid ourselves.</a:t>
            </a:r>
            <a:br>
              <a:rPr sz="2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“Deceit”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visite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mans 1:24-25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-“Therefore God gave them over in the sinful desires of their hearts to sexual impurity for the degrading of their bodies with one another.  They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hanged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ruth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of God for 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li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, and worshiped and served created things rather than the Creator--who is forever praised.  Amen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33520" y="4114800"/>
            <a:ext cx="4038480" cy="2666880"/>
            <a:chOff x="533520" y="4114800"/>
            <a:chExt cx="4038480" cy="2666880"/>
          </a:xfrm>
        </p:grpSpPr>
        <p:graphicFrame>
          <p:nvGraphicFramePr>
            <p:cNvPr id="122" name=""/>
            <p:cNvGraphicFramePr/>
            <p:nvPr/>
          </p:nvGraphicFramePr>
          <p:xfrm>
            <a:off x="533520" y="4114800"/>
            <a:ext cx="4038480" cy="266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4114800"/>
                      <a:ext cx="4038480" cy="26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1981080" y="4403880"/>
              <a:ext cx="2362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Times New Roman"/>
                </a:rPr>
                <a:t>Truth: Worship and serve the Creator; enjoy His gift of sexuality in marriag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876920" y="4038480"/>
            <a:ext cx="4266720" cy="2667240"/>
            <a:chOff x="4876920" y="4038480"/>
            <a:chExt cx="4266720" cy="2667240"/>
          </a:xfrm>
        </p:grpSpPr>
        <p:graphicFrame>
          <p:nvGraphicFramePr>
            <p:cNvPr id="126" name=""/>
            <p:cNvGraphicFramePr/>
            <p:nvPr/>
          </p:nvGraphicFramePr>
          <p:xfrm>
            <a:off x="4876920" y="4038480"/>
            <a:ext cx="4266720" cy="2667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4038480"/>
                      <a:ext cx="4266720" cy="266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6406200" y="4327560"/>
              <a:ext cx="24958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80"/>
                  </a:solidFill>
                  <a:latin typeface="Times New Roman"/>
                </a:rPr>
                <a:t>Lie: Worship and serve created things; sexual activity    okay outside of    marriag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25440" y="44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62012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y the exchange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mans 1:18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-“The wrath of God is being revealed from heaven against all the godlessness and wickedness of men who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uppress the truth by their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wickednes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.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oma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:23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--“...an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hanged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the glory of the immortal God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or imag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made to look like mortal man and birds and animals and reptiles.”            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(“images” = popularity, status, relationships, success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omans 1:25--“They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change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ruth of God for a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i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, and worshiped and served created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ing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rather than the Creator--who is forever praised.  Amen.” 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(“things” = materialism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324480" y="228600"/>
          <a:ext cx="190512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9051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47000" y="365040"/>
            <a:ext cx="103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ruth for a l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5440" y="44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5438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Result of the exchange: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God gave them over…”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omans 1:24--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...to sexual impurity...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omans 1:26--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…to shameful lusts…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omans 1:28--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…to a depraved mind…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5440" y="44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at’s the answer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id yourselves.    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]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“Therefore, rid yourselves of all malice and all deceit, hypocrisy, envy, and slander of every kind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ave pure milk.      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]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“Like newborn babies, crave pure spiritual milk...”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See Matthew 7:24-27.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952880"/>
            <a:ext cx="7238880" cy="160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4952880"/>
            <a:ext cx="778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33ff"/>
              </a:buClr>
              <a:buFont typeface="Zapf Dingba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we have exchanged the truth for a lie we hav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en the horrific resul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ff"/>
              </a:buClr>
              <a:buFont typeface="Zapf Dingba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we repent and return to God, the pur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iritual milk will make us p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5440" y="44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19:41:48Z</dcterms:created>
  <dc:creator>Robert C. Stone</dc:creator>
  <dc:description/>
  <dc:language>en-US</dc:language>
  <cp:lastModifiedBy>Kindlund</cp:lastModifiedBy>
  <dcterms:modified xsi:type="dcterms:W3CDTF">2002-03-27T23:04:01Z</dcterms:modified>
  <cp:revision>31</cp:revision>
  <dc:subject/>
  <dc:title>Word</dc:title>
</cp:coreProperties>
</file>