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4A1-434B-4838-B0E8-3ACC27CB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067-985C-4CCF-ACDA-1DD9F0AA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946-7D28-4923-8E72-E140B0DD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062-A893-44FB-AFD5-60FAB2AC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937E-CB1B-46DF-9124-01428B83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640F-7582-4D74-B385-675C1CD2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DD3E-E590-4403-8637-F38F541F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EC3F-9F9F-44F3-872D-38BE2528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CA53-3D21-4120-9A6F-B03B18B9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6052-8F9F-48D5-A0FD-1C9BF2F5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B4B6-0ECA-4472-B44A-5FEDB370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38B-B4FE-4C5B-AA84-BF5EAB9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3CB1-6B69-4471-BC4A-8FCCE889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09F2-3CA9-4A92-9178-9E1696C2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AC83-1DA7-409D-A22B-01E33743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BE65-3666-4E25-AA10-C5D5B386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DBA3-F0AC-499E-B60E-DDB08D7A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2AA-5030-4A02-9276-BBD27C62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725-001E-4B92-93D1-9FE8CF9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E46-D837-4BB2-A0A2-6BF4ED3B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1CE-D4CA-4858-99F5-20AAFA0B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3D2-A262-406C-94DB-726824D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8BE-FA5F-4AEB-AC0C-7AC5454D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F69-8395-48F1-8DAC-4A009E45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6CCC-370F-4ED8-9D77-4451B0D91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4371-EC39-4E53-9AF7-15CBC2E86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ff66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ff"/>
              </a:buClr>
              <a:buSzPct val="8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8288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ovision is Too S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343400" y="4952880"/>
          <a:ext cx="119052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4952880"/>
                    <a:ext cx="1190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Book Antiqua"/>
              </a:rPr>
              <a:t>The Problem is Too Big</a:t>
            </a:r>
            <a:endParaRPr b="0" lang="en-US" sz="7200" spc="-1" strike="noStrike">
              <a:solidFill>
                <a:srgbClr val="00cc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A Current Application of the Story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rst, insight into the affluent, needy heart of a modern Christian</a:t>
            </a:r>
            <a:r>
              <a:rPr b="1" lang="en-US" sz="20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itial response - offer exc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he conditions too difficul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“...it’s a remote place..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t’s too l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It’s getting late..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It’s not enoug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“...only five loaves and two fis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t’s going to cost too muc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Eight months’ wages would        not buy enough bread for each one to have a bit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hey can and will have to take care of themselve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“Send     the crowds away, so they can go...buy themselves some food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35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A Current Application of the Story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, insight into the process of meeting needs in our life/world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ice the Process and Seque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rst, the collection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crifici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gifts--vv. 17-18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, observe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wise distribution and managemen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of those gifts--Mark 6:39-4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, care is given i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servation of the gif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food and also i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llection of leftove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v. 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urth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ignificant spiritual ministry accompanie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the distribution of food--Matt 14:14; II Cor. 9:8,11b-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What are the steps?</a:t>
            </a:r>
            <a:r>
              <a:rPr b="1" lang="en-US" sz="2400" spc="-1" strike="noStrike">
                <a:solidFill>
                  <a:srgbClr val="00cccc"/>
                </a:solidFill>
                <a:latin typeface="Times New Roman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at is the application of this amazing miracle?</a:t>
            </a:r>
            <a:endParaRPr b="0" lang="en-US" sz="2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e calls for help/offers help.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Where shall I find bread that these may eat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He takes.                               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...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aking the five loaves and the two fish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e gives thanks/blesses us.  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...looking up to heaven, he gave thanks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He breaks us.                                  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“...broke the loaves…”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world is only fed with broken br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e gives US.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...he gave them to the disciples...the disciples gave them to the peopl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4952880"/>
            <a:ext cx="5791320" cy="533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Book Antiqua"/>
              </a:rPr>
              <a:t>Who has gone through this Process?</a:t>
            </a:r>
            <a:endParaRPr b="0" lang="en-US" sz="36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ke 22: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“And he took bread, gave thanks and broke it, and gave it to them, saying, ‘This is my body given for you.’  Do this in remembrance of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cup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24382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 Antiqua"/>
              </a:rPr>
              <a:t>Picture the Scene: </a:t>
            </a: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Matthew 14:13-21</a:t>
            </a:r>
            <a:endParaRPr b="0" lang="en-US" sz="36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site for feeding of 5,000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site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5528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 Antiqua"/>
              </a:rPr>
              <a:t>Just up the Ro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981080"/>
            <a:ext cx="78487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cDonald’s Near the Sea of Galil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mcd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857680" cy="1704960"/>
          </a:xfrm>
          <a:prstGeom prst="rect">
            <a:avLst/>
          </a:prstGeom>
          <a:ln w="0">
            <a:noFill/>
          </a:ln>
        </p:spPr>
      </p:pic>
      <p:pic>
        <p:nvPicPr>
          <p:cNvPr id="98" name="mcd2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2571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Book Antiqua"/>
              </a:rPr>
              <a:t>Matthew 14:13-14</a:t>
            </a:r>
            <a:br>
              <a:rPr sz="4000"/>
            </a:br>
            <a:r>
              <a:rPr b="1" lang="en-US" sz="4000" spc="-1" strike="noStrike">
                <a:solidFill>
                  <a:srgbClr val="00cccc"/>
                </a:solidFill>
                <a:latin typeface="Book Antiqua"/>
              </a:rPr>
              <a:t>John 6:3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Matthew 14:13--When Jesus heard what had happened, he withdrew by boat privately to a solitary place.  Hearing of this, the crowds followed him on foot from the tow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John 6:3 records:  “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Then Jesus went up on a mountainside and sat down with his disciples.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Matthew 14:14--When Jesus landed and saw a large crowd, he had compassion on them and healed their sick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John 6:5-9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cccc"/>
                </a:solidFill>
                <a:latin typeface="Times New Roman"/>
              </a:rPr>
              <a:t>5]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“When Jesus looked up and saw a great crowd coming towards him, he said to Philip, ‘Where shall we buy bread for these people to eat?’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cc"/>
                </a:solidFill>
                <a:latin typeface="Times New Roman"/>
              </a:rPr>
              <a:t>6]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e asked this only to test him, for he already had in mind what he was going to do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cccc"/>
                </a:solidFill>
                <a:latin typeface="Times New Roman"/>
              </a:rPr>
              <a:t>7]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ilip answered him, “Eight months’ wages would not buy enough bread f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each one to have a bite!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cccc"/>
                </a:solidFill>
                <a:latin typeface="Times New Roman"/>
              </a:rPr>
              <a:t>8]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nother of his disciples, Andrew, Simon Peter’s brother, spoke up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cc"/>
                </a:solidFill>
                <a:latin typeface="Times New Roman"/>
              </a:rPr>
              <a:t>9]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“Here is a boy with five small barley loaves and two small fish, but how far will they go among so many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Matthew 14:15-17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cccc"/>
                </a:solidFill>
                <a:latin typeface="Times New Roman"/>
              </a:rPr>
              <a:t>15]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“As evening approached, the disciples came to him and said, ‘This is a remote place, and it's already getting late. Send the crowds away, so that they can go to the villages and buy themselves some food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cccc"/>
                </a:solidFill>
                <a:latin typeface="Times New Roman"/>
              </a:rPr>
              <a:t>16]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Jesus replied, ‘They do not need to go away. You give them something to eat.’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cccc"/>
                </a:solidFill>
                <a:latin typeface="Times New Roman"/>
              </a:rPr>
              <a:t>17]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‘We have here only five loaves of bread and two fish,’  they answere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cc"/>
                </a:solidFill>
                <a:latin typeface="Book Antiqua"/>
              </a:rPr>
              <a:t>The Problem is Too Big</a:t>
            </a:r>
            <a:endParaRPr b="0" lang="en-US" sz="72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ovision is Too S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4952880"/>
          <a:ext cx="119052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4952880"/>
                    <a:ext cx="1190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4920" y="1905120"/>
          <a:ext cx="2590560" cy="19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05120"/>
                    <a:ext cx="259056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Times New Roman"/>
              </a:rPr>
              <a:t>The Key - John 6:9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Here is a boy with five small barley loaves and two small fish...”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inciple of provision:  Gave the little he had to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What were the results because of the boy’s gift? 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irst, all are “satisfied.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Matt. 14:20a--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“They all ate and were satisfied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ond, there was a “surplus” after the distribution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Matt. 14:20b--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“…and the disciples picked up twelve basketfuls of broken pieces that were left ov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rd, Jesus was recognized as a “sovereign.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John 6:14-15--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“...they intended to come and make him king by force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04:44:44Z</dcterms:created>
  <dc:creator>Robert C. Stone</dc:creator>
  <dc:description/>
  <dc:language>en-US</dc:language>
  <cp:lastModifiedBy>Kindlund</cp:lastModifiedBy>
  <dcterms:modified xsi:type="dcterms:W3CDTF">2002-06-29T23:29:52Z</dcterms:modified>
  <cp:revision>36</cp:revision>
  <dc:subject/>
  <dc:title>The Problem is Too Big</dc:title>
</cp:coreProperties>
</file>